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C188-F04E-452C-99C8-E2E1BB6ED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0660-BE3B-4B65-ADA9-C140E8E4C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666B-5BA1-46E0-A7A2-43672F89D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5072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660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0448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5072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9660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32C0-2273-4CFB-95BE-5D938659D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171440" y="177480"/>
            <a:ext cx="7793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0CC5-CF92-4206-B413-0A7F38C33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15072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9660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0448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15072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9660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08E4-353F-4BBD-BED3-2DBDD1FE1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DB46-2FC3-44A9-8C20-A44395AF1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520D-10B8-4EC9-A023-4E8848042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71440" y="177480"/>
            <a:ext cx="7793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49E3-3BB9-4238-B1A5-9DE2EC95E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5384-D659-4876-A0E9-FB4C41DF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E825-B12F-4CAD-86DB-2AF73AE1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84A7-4739-401D-B9ED-AA254E16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38120" y="223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0800" y="22392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61960" y="6462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32040" y="6462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7600" y="57312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82640" y="1159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63680" y="9064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188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2626920" y="6243480"/>
            <a:ext cx="392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161D5-67E4-4752-B781-92B3C91EC5C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00080" y="2438280"/>
            <a:ext cx="9009000" cy="1052640"/>
            <a:chOff x="10008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390600" y="2546280"/>
              <a:ext cx="711360" cy="474840"/>
              <a:chOff x="39060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39060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7364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514440" y="2968560"/>
              <a:ext cx="737640" cy="474840"/>
              <a:chOff x="51444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51444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08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10008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3512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1616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42560" y="980640"/>
            <a:ext cx="772020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980640"/>
            <a:ext cx="769644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Tahoma"/>
              </a:rPr>
              <a:t>Scattered Context Grammars: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3600"/>
            </a:b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Generation of Languages in a Semi-Parallel Way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068120" y="3860280"/>
            <a:ext cx="6985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Advaced VYP Material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Related to VYP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A) 1/2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heorem 1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 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heorem 2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Sketch): 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}.  Assume th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, {a}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is a SCG. In G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.  Thus,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very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.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|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Consid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,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 |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= 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&lt;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1, s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—a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adi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D321-6A7B-46A9-9CA6-9CCA1FDCFDEA}" type="slidenum">
              <a:t>10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A) 2/2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1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3)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2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53B7-3590-4AB3-A0EC-D3EF4D4EBC95}" type="slidenum">
              <a:t>11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duction of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B) reduction of the number of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non-context-free)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 reduction of (A) and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65C9-5429-486A-8119-10A03B1DDCEC}" type="slidenum">
              <a:t>12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1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eduction of the Number of Context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ontext product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a non-context-free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with 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n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very language in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generated by a scattered context grammar with only these two context produc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0, 0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1, 1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80E3-EEE3-492D-8D21-4FE4094ECA58}" type="slidenum">
              <a:t>13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2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. Left-Extended Queue Gramm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 -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ite set of productions of the form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  Every generation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has this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]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2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+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2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2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#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+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+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DF0F-ECDA-4456-9A76-17DD0CE1DB64}" type="slidenum">
              <a:t>14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3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. Sub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binary code of symbols fro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binary code of states fro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I. Introduction of SC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F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ont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nt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0, 0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1, 1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}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V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F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used to gene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F4AF-A004-4ED3-BEC3-76FD4808466C}" type="slidenum">
              <a:t>15</a:t>
            </a:fld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4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.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ontex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used to verif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et 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eac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0, 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using ($, 0, 0, $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1, 1, $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a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6F2C-2553-4C8B-9F35-1CA24D0FB478}" type="slidenum">
              <a:t>16</a:t>
            </a:fld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5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 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CG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two context productions characterize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What is the power of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CG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a single context produc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709F-5891-458C-9276-C700121328E4}" type="slidenum">
              <a:t>17</a:t>
            </a:fld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of SCG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duction of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 reduction of the number of context (non-context-free)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C) reduction of (A) and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158D-7A19-4F62-A9F6-A77B69290852}" type="slidenum">
              <a:t>18</a:t>
            </a:fld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imultaneous Reduction (A) &amp; (B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imultaneous Reduction of the Number of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onterminals and the Number of Context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Next two theorems proved in cooperation with H. Fernau (Germany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very type-0 language is generated by a SCG with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even context productions a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ive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very type-0 language is generated by a SCG with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ix context productions a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ix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an we improve the above theorem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01A4-040C-407C-90F1-F8405A188698}" type="slidenum">
              <a:t>19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Based on these Paper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: Coincidental Extention of Scattered Context Languages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cta Informatic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9, 307-314,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 and Fernau, H.: On the Degree of Scattered Context-Sensitivity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eoretical Computer Scie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290, 2121-2124,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: Descriptional Complexity of Scattered Rewriting and Multirewriting: An Overview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ournal of Automata, Languages and Combinator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571-579, 20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 and Fernau, H.: A Simultaneous Reduction of Several Measures of Descriptional Complexity in Scattered Context Grammars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formation Processing Lett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214-219,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F0EE-D0B1-473D-B133-47F0CAB268EA}" type="slidenum">
              <a:t>2</a:t>
            </a:fld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New Operations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free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: each production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satisfi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 }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ive: Increase of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to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y a simple language operation ove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1764-2695-47DD-9A32-CE7CD0BF8EDC}" type="slidenum">
              <a:t>20</a:t>
            </a:fld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1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incidental Exten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symbol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 a strin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y string of the for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, i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incidental #-exten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anguage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s a coincidental #-extension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string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represents a coincidental extension of a string i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deletion of all #s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sults in L, symbolically written a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re are an infinitely many coincidental extensions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e writ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5D94-F9EA-4032-A56F-285D72A21C0E}" type="slidenum">
              <a:t>21</a:t>
            </a:fld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2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ampl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5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,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a#b#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olds, bu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hol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5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is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incidental #-extension of any language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0941-340D-4456-A953-C86B021E596A}" type="slidenum">
              <a:t>22</a:t>
            </a:fld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3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, there exists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Sketch):  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re exists a SCG, G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G). Construct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, P, S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#}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so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omomorphism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every nontermina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every termina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8B97-A27F-45E4-8DEE-5D265457C976}" type="slidenum">
              <a:t>23</a:t>
            </a:fld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4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22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constructed by performing the next six step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$)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I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ry 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d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$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, $)  t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II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, $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, $)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V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$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dd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(#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#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#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#, §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FA5B-B030-4637-82A5-488A12F99807}" type="slidenum">
              <a:t>24</a:t>
            </a:fld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5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I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dd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#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#) to 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generates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in this wa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Y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$}. In addition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§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nd only if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G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2787-851D-4EB7-B0AC-79B1E572F149}" type="slidenum">
              <a:t>25</a:t>
            </a:fld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6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reater detail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expressed 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Then, there exists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9426-B108-469E-8919-69C3A5531F40}" type="slidenum">
              <a:t>26</a:t>
            </a:fld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Use in Theoretical Computer Science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e in Theoretical Computer 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For every languag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there exists a homomorphis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 languag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uch that     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complex way, this result was proved on page 245 in [Greibach, S. A. and Hopcroft, J. E.: Scattered Context Grammars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. Comput. Syst. Sci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, 232-247 (1969)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B930-4240-4F9A-A58B-9816F6E53413}" type="slidenum">
              <a:t>27</a:t>
            </a:fld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Future Investigation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ture Investig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k-limited coincidental exten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 a non-negative intege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symbol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 a strin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y string of the for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here 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, is a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mi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incidental #-exten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anguage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s a coincidental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mi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#-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ten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string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present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limited coincidental extension of a string i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deletion of all #s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sults in L, symbolically written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amp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, 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176B-A115-4398-A71D-F4F9C1E2EB64}" type="slidenum">
              <a:t>28</a:t>
            </a:fld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Very Important Open Problem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mportant 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ere exist a non-negative integ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such that 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for so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o, I know how to prov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free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F5DB-A7BB-4625-9EBA-8D823D8B5CD5}" type="slidenum">
              <a:t>29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lassification of Parallel Grammar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. Totally parallel gramm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uch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ystems, rewrit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ymbols of the sentential form during a single derivation step (not discussed in this talk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. Partially parallel gramm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writ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ymb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leaving the other symbols unrewritten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cattered Context Gramm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ork in a partially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allel way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se grammars ar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entral to this tal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E48F-6CB8-416A-8EB2-CB5FEBC17BA6}" type="slidenum">
              <a:t>3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cattered Context Grammars (SCGs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s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parallel gramma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of several context-free productions during a single derivation step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onger than CF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 Topics under Discu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tion of the grammatical siz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language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C3BB-C488-4E77-A740-8ED96204FF5B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ncept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of context-free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ral nonterminals are rewritten in parallel while the rest of the sentential  form remains un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2D28-F736-4BBD-ABB3-39B7EA73F7AC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Definition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attered context gramma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as in a CF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finite set of productions of the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 with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rect deri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...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...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erated langu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5695-D426-4C54-B6F1-E5506E19D105}" type="slidenum">
              <a:t>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duc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A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ri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bA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AbbAc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bb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erated Langu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241F-44E8-47AE-B31C-76DB4267B46E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Language Familie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uage Famil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tex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itive Langu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cursivel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erable Langu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SCG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SCG  with no more tha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terminals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4A53-F72F-4F45-A322-9333E398700A}" type="slidenum">
              <a:t>8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Reduction of SCGs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duction of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A) 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 reduction of the number of context (non-context-free)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 simultaneous reduction of (A) and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7E9A-8748-4D8A-8475-F5C259B80ECC}" type="slidenum">
              <a:t>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19:50:25Z</dcterms:created>
  <dc:creator>Jan Hrouzek</dc:creator>
  <dc:description/>
  <dc:language>en-US</dc:language>
  <cp:lastModifiedBy>Alexander Meduna</cp:lastModifiedBy>
  <dcterms:modified xsi:type="dcterms:W3CDTF">2005-10-09T19:37:59Z</dcterms:modified>
  <cp:revision>26</cp:revision>
  <dc:subject/>
  <dc:title>Scattered Context Grammars:  Generation of Languages in a Semi-Parallel Wa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24619893</vt:r8>
  </property>
  <property fmtid="{D5CDD505-2E9C-101B-9397-08002B2CF9AE}" pid="3" name="_AuthorEmail">
    <vt:lpwstr>books@digibooks</vt:lpwstr>
  </property>
  <property fmtid="{D5CDD505-2E9C-101B-9397-08002B2CF9AE}" pid="4" name="_AuthorEmailDisplayName">
    <vt:lpwstr>books</vt:lpwstr>
  </property>
  <property fmtid="{D5CDD505-2E9C-101B-9397-08002B2CF9AE}" pid="5" name="_EmailSubject">
    <vt:lpwstr>Spain</vt:lpwstr>
  </property>
</Properties>
</file>